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340-40DD-4714-8655-6AAF74279D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0D5-1E4D-4964-BD18-AE9CA03E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791-C8FC-422C-A9E5-36D37017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716-05B2-4054-BD74-9B340A4B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BD6-F7F0-4A7B-9AB1-920322F3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557-FC99-4D31-80D5-5B38EF9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6CF-D706-46AD-A920-2F09304B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552-5DF9-4F35-8C13-A9FE7DD4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242-E843-42B5-8268-2DDFDB0B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570-4863-4074-8585-5AA754AD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99F-4B65-43B3-8C73-ABEB1D53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C58-1359-480C-9CFD-714126DE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058-2FD1-4067-8344-F243A2B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4DB2-9A26-4C0E-978D-723B25884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LEGION2</dc:creator>
  <dc:description/>
  <dc:language>en-US</dc:language>
  <cp:lastModifiedBy>LEGION2</cp:lastModifiedBy>
  <dcterms:modified xsi:type="dcterms:W3CDTF">2016-01-14T12:04:34Z</dcterms:modified>
  <cp:revision>7</cp:revision>
  <dc:subject/>
  <dc:title>The components of the blood</dc:title>
</cp:coreProperties>
</file>